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F41-D629-484F-AF84-A0A08255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704B-13CC-4AE2-8A95-BCD0B55B8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5491-9AA7-402A-B05E-AEB94E459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7643-DE96-4C0D-A287-974E6949A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12BE-03E5-4399-953D-AC11F3B6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5D0CF-6B6C-47D2-8EC7-6E82C5FC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86D4-CC48-48E9-A0F0-00AC8F436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F51D-ACE4-4FAD-B596-9DECC6A3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8FEA-7371-4A43-BDDB-1077D36A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B029-34C9-4884-94D8-4650A0BC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3854-9A41-41CF-8517-E07B19BC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383-0F51-4539-9D10-81932CB9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AF84F-8267-4AAC-A541-631F35E6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38CA-D3C8-473F-9482-3152D35B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E4EED-1C84-43C5-BE69-8D0DA2091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4BE23-3E92-4475-8ADA-7D4E1219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B6DB5-CBCC-4144-AE48-732F6ECAB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9EFA-8EB1-48F7-961C-E4249A53F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6EEE-CE86-4561-9F87-34719809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1F58-1A68-4D44-998B-D03B3B7CD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6DCA-15AE-4147-9FC3-CFA4017E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A42F-DB0D-40DB-8D86-C74C4488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9CB-24F7-4A20-A788-A9B032AC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2851-C370-4D2D-96D3-0B6ECBD4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05C5-2D23-4BE6-8B95-A2FDD19AD7C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BADB-E111-4C1B-9820-0310690CE3F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linkedin.com/groups?gid=35771&amp;trk=myg_ugrp_ovr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linkedin.com/groups?gid=75556&amp;trk=myg_ugrp_ovr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linkedin.com/groups?gid=1941474&amp;trk=myg_ugrp_ovr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linkedin.com/groups?gid=134906&amp;trk=myg_ugrp_ovr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www.linkedin.com/groups?gid=51822&amp;trk=myg_ugrp_ovr" TargetMode="External"/><Relationship Id="rId10" Type="http://schemas.openxmlformats.org/officeDocument/2006/relationships/image" Target="../media/image6.jpeg"/><Relationship Id="rId11" Type="http://schemas.openxmlformats.org/officeDocument/2006/relationships/hyperlink" Target="http://www.linkedin.com/groups?gid=43621&amp;trk=myg_ugrp_ovr" TargetMode="External"/><Relationship Id="rId12" Type="http://schemas.openxmlformats.org/officeDocument/2006/relationships/image" Target="../media/image7.jpeg"/><Relationship Id="rId13" Type="http://schemas.openxmlformats.org/officeDocument/2006/relationships/hyperlink" Target="http://www.linkedin.com/groups?gid=134079&amp;trk=myg_ugrp_ovr" TargetMode="External"/><Relationship Id="rId14" Type="http://schemas.openxmlformats.org/officeDocument/2006/relationships/image" Target="../media/image8.jpeg"/><Relationship Id="rId15" Type="http://schemas.openxmlformats.org/officeDocument/2006/relationships/hyperlink" Target="http://www.linkedin.com/groups?gid=1146807&amp;trk=myg_ugrp_ovr" TargetMode="External"/><Relationship Id="rId16" Type="http://schemas.openxmlformats.org/officeDocument/2006/relationships/image" Target="../media/image9.jpeg"/><Relationship Id="rId17" Type="http://schemas.openxmlformats.org/officeDocument/2006/relationships/hyperlink" Target="http://www.linkedin.com/groups?gid=41352&amp;trk=myg_ugrp_ovr" TargetMode="External"/><Relationship Id="rId18" Type="http://schemas.openxmlformats.org/officeDocument/2006/relationships/image" Target="../media/image10.jpeg"/><Relationship Id="rId19" Type="http://schemas.openxmlformats.org/officeDocument/2006/relationships/hyperlink" Target="http://www.linkedin.com/groups?gid=1927518&amp;trk=myg_ugrp_ovr" TargetMode="External"/><Relationship Id="rId20" Type="http://schemas.openxmlformats.org/officeDocument/2006/relationships/image" Target="../media/image11.jpeg"/><Relationship Id="rId21" Type="http://schemas.openxmlformats.org/officeDocument/2006/relationships/image" Target="../media/image12.jpeg"/><Relationship Id="rId22" Type="http://schemas.openxmlformats.org/officeDocument/2006/relationships/image" Target="../media/image13.jpeg"/><Relationship Id="rId2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TS Re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e Sales and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mpaigns analytically planned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experienced Profession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turn your ideas into mon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TS Logo PAG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! Sales Best Practic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2666880"/>
            <a:ext cx="1066680" cy="533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Adobe Software User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0" y="2743200"/>
            <a:ext cx="1143000" cy="5716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B2B Lead Generation Roundtab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81280" y="2819520"/>
            <a:ext cx="914400" cy="4572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BtoB Marketin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24280" y="2819520"/>
            <a:ext cx="99072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-152280" y="0"/>
          <a:ext cx="182520" cy="71604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cccccc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pic>
        <p:nvPicPr>
          <p:cNvPr id="111" name="" descr="Chief Marketing Officer (CMO) Network - #1 Group for CMO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867280" y="2819520"/>
            <a:ext cx="838440" cy="4190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CRM Experts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7162920" y="2819520"/>
            <a:ext cx="1066680" cy="5331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Database Marketers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990720" y="3581280"/>
            <a:ext cx="1066680" cy="533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Eloqua Users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514600" y="3733920"/>
            <a:ext cx="990720" cy="495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eMarketing Association Network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3809880" y="3733920"/>
            <a:ext cx="914400" cy="4572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Homeland Security Information Sharing and Social Media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5029200" y="3657600"/>
            <a:ext cx="1028880" cy="514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Innovative Marketing, PR, Sales, Word-of-Mouth &amp; Buzz Innovators"/>
          <p:cNvPicPr/>
          <p:nvPr/>
        </p:nvPicPr>
        <p:blipFill>
          <a:blip r:embed="rId21"/>
          <a:stretch/>
        </p:blipFill>
        <p:spPr>
          <a:xfrm>
            <a:off x="6248520" y="3657600"/>
            <a:ext cx="1066680" cy="533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Pharma Marketing"/>
          <p:cNvPicPr/>
          <p:nvPr/>
        </p:nvPicPr>
        <p:blipFill>
          <a:blip r:embed="rId22"/>
          <a:stretch/>
        </p:blipFill>
        <p:spPr>
          <a:xfrm>
            <a:off x="7543800" y="3733920"/>
            <a:ext cx="10666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dentifying Demand Leads to Revenue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Marketing efforts track Activity not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d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or Direct Mail Bl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rough 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in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unqualified indications of Interest with low correlations to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Marketing Research Based Demand Generatio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alified Sales Opportunities Are Defined B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ustomer Enviro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Operating Conditions and Facts that make using a Solution, Product or Service practicle or imprac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ustomer Sensitivity to Operating Probl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d Business problems a customer will pay money to solve----that can be solved by the solution, service or prduct you 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5345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Garamond"/>
              </a:rPr>
              <a:t>Traditional Marketing Campaigns Do not Identify Demand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Marketing Efforts Communicate information along to Lines of though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y My Product and you will Save Mon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--This Generic ROI Approach is Over-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Here is a list of my Product and Services which is of interes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Failure Points occur becaus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e Prospect does not see the connection between the offering and a business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Prospects respond out of curosity but have no business problem they will pay to Fix…. this results in an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 Unqualified L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Cost of Unqualified Leads is Hig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anies Spend Large Budgets to generate unqualified responses v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 Show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hrough A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Mail and Direct Mail Bla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de Public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ld Calling Services and Campa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Then Burn Costly Sales Rep Time Weeding through unqualified responses………….. To hopefully find a Qualified Lead!!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IMTS Has Developed A Game Changing Model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Demand Identific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Qualific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functions are moved to the front of the process reducing cost of sales by over 50%.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les Cycle Tim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s reduced 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osing Ra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re improved via Mark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actical Research which uncovers the customers with business issues they will pay for you to sol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arket Research Based Lead Genera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rings down the cost of qualifying Lea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vides better demand information as people tend not to share issues with potential vendors ( 3rd party non-vendor surveys are used to collect demand data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en uses Demand Data to create a stream of actionable sales lea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cientifically Collected Data Provides a Marketing Advantag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s Leads Provide the Direct ROI However Marketing Decisions are improved because the same data taken in aggregate defi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 segmentation and siz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ing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Brand perce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Demand Drivers in a market seg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ive analytics between market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Revenue per customer a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mand Based Lead Generatio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s the need for many costly marketing outreach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s List Building and Web based research to low cost Offshore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 process that moves Lead Qualification and Demand Identification work to $15/Hr Market Researchers Vs 50-100 or 200 dollar/Hr sales peo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ced on Performance (dollars per survey or l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Valuable marketing trend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etter Plan for a winning Han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cards"/>
          <p:cNvPicPr/>
          <p:nvPr/>
        </p:nvPicPr>
        <p:blipFill>
          <a:blip r:embed="rId1"/>
          <a:stretch/>
        </p:blipFill>
        <p:spPr>
          <a:xfrm>
            <a:off x="6553080" y="4232160"/>
            <a:ext cx="221004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4:59:24Z</dcterms:created>
  <dc:creator>Jay Jablonski</dc:creator>
  <dc:description/>
  <dc:language>en-US</dc:language>
  <cp:lastModifiedBy>Jay Jablonski</cp:lastModifiedBy>
  <dcterms:modified xsi:type="dcterms:W3CDTF">2010-11-13T14:14:05Z</dcterms:modified>
  <cp:revision>6</cp:revision>
  <dc:subject/>
  <dc:title>IMTS Research</dc:title>
</cp:coreProperties>
</file>